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111-4BC4-4656-A438-9EA1AAFA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734-F5B2-40D3-BAB5-550B18C6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1B1-B806-4139-99D6-BB57F7E8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F61-4268-4B38-8104-6EC15483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35BA-4A19-4F03-9059-A4DE28EC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D7B-9987-43B7-B078-76D582DC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0147-AB9F-4256-BF6C-B242A95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9132-0F29-4245-9ADA-7BBC0DB8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F5F6-2E67-42FF-8A3B-4D332183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4FB6-6792-4C15-A031-79C6381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DDA-D65D-4572-BAEE-99C1C7CF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80E-5D79-4EC4-8FE6-47AE631E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4978-B2A2-4A24-80ED-D338CF3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D0E3-652C-43FD-8E33-21D4C25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92D-3CE7-4E5F-8194-5DEDB63F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DBF9-14E6-459B-86CE-5F0A378C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1AE-3632-4AEF-A379-1DF1A277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E8D-798C-4486-AB44-5FBF155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D91-6F18-4A33-8A6F-4AC504D8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CA6-B6E7-4D25-A669-28D4BDC3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BCE-6090-4E7D-96E6-83012CF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D21-E946-4FB1-9DEF-2922F9C6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3C7-CFB6-44D6-B69E-1A670B4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761-4832-4791-A730-405D2A56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4C6-8DC8-44D1-9C31-A89EADC9BD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11E-CD6E-4E79-B1CE-7CBFBCEC50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Estudio de la Aplicación de Modelos de Clase Latente a la Segmentación: caso Economax”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743200" y="51782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rancisco Mallea 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¿Qué es el análisis de clase laten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65320" y="228600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lase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L</a:t>
            </a: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2286000"/>
            <a:ext cx="4191120" cy="703800"/>
            <a:chOff x="3657600" y="2286000"/>
            <a:chExt cx="4191120" cy="703800"/>
          </a:xfrm>
        </p:grpSpPr>
        <p:sp>
          <p:nvSpPr>
            <p:cNvPr id="168" name=""/>
            <p:cNvSpPr/>
            <p:nvPr/>
          </p:nvSpPr>
          <p:spPr>
            <a:xfrm>
              <a:off x="4724280" y="2286000"/>
              <a:ext cx="3124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sificar objetos simila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5146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57600" y="3962520"/>
            <a:ext cx="4248000" cy="398880"/>
            <a:chOff x="3657600" y="3962520"/>
            <a:chExt cx="4248000" cy="398880"/>
          </a:xfrm>
        </p:grpSpPr>
        <p:sp>
          <p:nvSpPr>
            <p:cNvPr id="171" name=""/>
            <p:cNvSpPr/>
            <p:nvPr/>
          </p:nvSpPr>
          <p:spPr>
            <a:xfrm>
              <a:off x="4781520" y="39625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odelo Mix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403848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Modelo Mi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924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los Mix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tos no se modelan por una sola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219320" y="3124080"/>
                <a:ext cx="521640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segmento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lase Laten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 variable escondida (late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ado de pertenencia a cada seg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lución al problema a través de modelos mixtos (multiples distribu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Encotrar parámet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485784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6858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rtamiento basado en cantidad de comp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9480" y="3124080"/>
          <a:ext cx="81536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81536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ewton-Raph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cas ite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ergencia no asegu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chas Iteracione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  Conv. L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v. asegurada por lo menos a un ópti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uy sensible a los parametros de part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teraciones fáciles de progr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209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lgoritmo E-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jetivo: Encontrar los parametros des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la función de máximoverosimilit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babilidad individual de pertenencia segmento S puede ser calcul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05520" y="3255840"/>
                <a:ext cx="28191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observa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.M un ejempl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 sujetos y sus compras para un determinado produ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ienen de 2 Poissons (S=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 a 1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11 a 20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Tasa de comp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7908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81560" y="3327480"/>
                <a:ext cx="3808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375080" y="3321000"/>
                <a:ext cx="393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81680" y="3733920"/>
                <a:ext cx="81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14600" y="3772080"/>
            <a:ext cx="1143000" cy="342720"/>
          </a:xfrm>
          <a:prstGeom prst="rightArrow">
            <a:avLst>
              <a:gd name="adj1" fmla="val 50000"/>
              <a:gd name="adj2" fmla="val 83377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9080" y="4381560"/>
            <a:ext cx="1028520" cy="342720"/>
          </a:xfrm>
          <a:prstGeom prst="rightArrow">
            <a:avLst>
              <a:gd name="adj1" fmla="val 50000"/>
              <a:gd name="adj2" fmla="val 75026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96000" y="4305240"/>
                <a:ext cx="1027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0"/>
          <a:ext cx="9144000" cy="69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451640" y="835200"/>
            <a:ext cx="79236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17080" y="3357720"/>
            <a:ext cx="792000" cy="266508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o de teorías y su evaluación en casos práct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vas Herramientas de apoyo al Marketing: Clase Lat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portunidad: Caso Econom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1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38080" y="1982880"/>
          <a:ext cx="7772400" cy="40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288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14400" y="1949400"/>
          <a:ext cx="754380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49400"/>
                    <a:ext cx="754380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4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2133720"/>
          <a:ext cx="7162920" cy="372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16292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3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2101680"/>
          <a:ext cx="754380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01680"/>
                    <a:ext cx="754380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Gráficamente (5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2030400"/>
          <a:ext cx="7238880" cy="37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0"/>
                    <a:ext cx="72388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V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Tiene un fundamento estadístico difer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LEXIBLE (se pueden combinar distribuciones simples y complicad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n utilizar variables con diversas escalas (nominal, ordinal, continuo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estadísticos para la determinación de número de clu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Diferencias con el clustering clásico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s</a:t>
            </a: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v</a:t>
            </a: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entaja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114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nsibilidad a la elección de los valores ini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-means o utilización de varias muestras ale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7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estimación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éric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ualmente e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n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iv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ilización de herramientas computacionales y funciones con expresiones ana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imadores de máxima verosimilitud (parámetros) pueden sesgarse en muestras pequeñ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3333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goritmo EM puede llegar a óptimo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05740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76720"/>
            <a:ext cx="533520" cy="838080"/>
          </a:xfrm>
          <a:custGeom>
            <a:avLst/>
            <a:gdLst>
              <a:gd name="textAreaLeft" fmla="*/ 71280 w 533520"/>
              <a:gd name="textAreaRight" fmla="*/ 462240 w 53352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jetivos: Interrelaciones Cruzadas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Catego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egmentos de Cl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atos: Datos de Panel (P.O.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Julio del año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oceso Caso Economa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trucción Matriz de Disimil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as 6 variables necesa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DS con matr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.A para determinar seg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.L para caracterizar categor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cusión, Implicaciones, 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Los Datos Utiliz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ductos en Cana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dades Vend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echa de Comp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atos de Julio del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 Gene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udiar la aplicación de modelos de clase latente como una herramienta de segmentación a un caso real (caso Economax) y su comparación con otras herramient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Primer Análisi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edias, Varianzas, Frecuencia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ías de mayor compra (inicios y finales de seman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rás de mayor compra (antes de almuerzo, fin de jornada labo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to promedio cercano a los $4.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Pago: Efectivo (99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Elección de Número de Clust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orre el programa para varios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elecciona el de mejores indic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4653000"/>
            <a:ext cx="6192720" cy="165564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44520" y="4653000"/>
            <a:ext cx="6207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Outputs – Probabilidad de Membresi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326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971800" y="2151000"/>
            <a:ext cx="3790800" cy="3467160"/>
            <a:chOff x="2971800" y="2151000"/>
            <a:chExt cx="3790800" cy="3467160"/>
          </a:xfrm>
        </p:grpSpPr>
        <p:sp>
          <p:nvSpPr>
            <p:cNvPr id="245" name=""/>
            <p:cNvSpPr/>
            <p:nvPr/>
          </p:nvSpPr>
          <p:spPr>
            <a:xfrm>
              <a:off x="3124080" y="2151000"/>
              <a:ext cx="221004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400" y="2417760"/>
              <a:ext cx="228600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684520"/>
              <a:ext cx="236232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2989440"/>
              <a:ext cx="228600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24320" y="3218040"/>
              <a:ext cx="2438280" cy="285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1800" y="3522600"/>
              <a:ext cx="106668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1800" y="4284720"/>
              <a:ext cx="1066680" cy="3049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1332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95920" y="5008680"/>
              <a:ext cx="914400" cy="6094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definen cuatro clu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Diarias (58,27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Semanales (29,2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Bisemanales o Mensuales (6,98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as Ocasionales o de Emergencia (5,5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análisis lleva a un resultado más “fin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erencias con caso Bosh M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Sug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Microsegmen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sibilidad de cambio de formato a uno de mejor servicio para sus clientes (compras diar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alización de estrategias que permitan un mayor conocimiento del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ondolas Evolu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mines Consultores (1999)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“Sector Supermercados: ¿Cómo ha Evolucionado y hacia Dónde va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 Consulting (2002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Building a Category Management Capabi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Recomend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 Variables Dispon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 de Te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udio de Software y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ferenci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89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del, Michel &amp; Kamakura, Wagner A. (2000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Market Segmentation: Conceptual and Methodological Foundations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nternational Series in Quantitative Marketing, Vol 8. 2ª Edi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gidson, Vermunt (2003) 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ntechnical Introduction to Latent Class Mode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laert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Frank. (2002)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xpectation Maximization Algorithm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2002)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Latent Class Models for Clustering: A Comparison with K-Means”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anadian Journal of Marketing Research, Volume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munt, Jeroen K., Magidson, Jay. (200?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Latent Class Cluster Analysis“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cal Innovation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sarbo, Kamakura &amp; Wedel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Applications of Multivariate Latent Variable Models in Market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sh, Musalem (2002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Segmenting Shoppers According to their Basket Composition: Implications for Cross-Category Managemen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utoriales Latent Gol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www.latentgol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upermercad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l kiosco al megamerca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Hábitos de consumid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s de Supermerc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ormat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1866960"/>
            <a:ext cx="7772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racterístic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estión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gístic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existencias, ro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rchandising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(posición, fluj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22050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27082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ategory Manag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les de variables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istencia de Inter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mplo años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20968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ecesidad de Diferenc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odos son client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seg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gmentación Interio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permercad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. Servilletas de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05200" y="40006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9338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egment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epto Cl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cra clientes en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eación de grupos de personas u organizaciones que son similares en terminos de de su respuesta al marketing mix, y por lo tanto, significativos para su planeamient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8:58:37Z</dcterms:created>
  <dc:creator>Francisco Mallea</dc:creator>
  <dc:description/>
  <dc:language>en-US</dc:language>
  <cp:lastModifiedBy>P</cp:lastModifiedBy>
  <dcterms:modified xsi:type="dcterms:W3CDTF">2004-11-04T11:36:09Z</dcterms:modified>
  <cp:revision>18</cp:revision>
  <dc:subject/>
  <dc:title>“Estudio de la Aplicación de Modelos de Clase Latente a la Segmentación: caso Economax”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0300826</vt:r8>
  </property>
  <property fmtid="{D5CDD505-2E9C-101B-9397-08002B2CF9AE}" pid="3" name="_AuthorEmail">
    <vt:lpwstr>pabustos@ing.uchile.cl</vt:lpwstr>
  </property>
  <property fmtid="{D5CDD505-2E9C-101B-9397-08002B2CF9AE}" pid="4" name="_AuthorEmailDisplayName">
    <vt:lpwstr>Pablo Bustos Serrano</vt:lpwstr>
  </property>
  <property fmtid="{D5CDD505-2E9C-101B-9397-08002B2CF9AE}" pid="5" name="_EmailSubject">
    <vt:lpwstr>presentaciones</vt:lpwstr>
  </property>
</Properties>
</file>